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39B8-2A6E-4852-8322-580DDED5A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00A-534F-4F60-8BFB-E31FCBEBF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611-A9E1-4054-8DC3-5BF83A19B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E586-0FA2-414B-B842-AFEEA5C7C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C53E-9926-4646-890D-2D83CF7A8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1B2-87A0-4C59-8B99-7FF530F4F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323F-05C7-4C65-BC41-1ADE14E14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448A-C019-49E0-AF13-DE4669502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2DC-5B5E-4A49-897A-1BEB13106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692-C2A1-45F4-BF22-59C1DA0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74C-C5C7-4675-B58F-5E43B05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E41A7-F44A-446C-85C9-A402F3D6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23C03-9357-4E5E-8EC6-82C275A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46096-BC73-4685-AEC0-E651BB8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4D8F-AFAA-4E3C-9FF5-4312A9C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534C-0C3B-4198-8250-B6B1B0B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C5C33-19B4-48AA-BFC3-5B50CC5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ABA5-E8AB-4AB8-97BA-30F6B785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7A49B-C491-4861-9692-CBC02F38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C33C-37F3-4293-B9F4-C65D6089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879CF0-0A13-4D97-A9B4-79FCBA7B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C83-90B7-439E-8918-426AF34A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5166B-C65F-4752-BA7E-EB38814A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FB2911-78C7-4233-B450-F1AA19C1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62795-4D6C-4F5F-A48B-2F9AF6D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8B262C-2FBA-4A78-BEA7-D5DE4B67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10FE8-B0AB-429D-AAA7-EBE017D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F39DAB-CCAA-42C0-9203-E1ECABB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ED0CCF-9756-49BA-A3E3-65F3D58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25E477-4896-4638-A536-0572FC1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B17B9-ABF4-4534-9BCE-386F7E62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AFC37B-D594-4EE6-AD94-60E766CE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E4B-EC60-4C85-BC99-9DC0CD8A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47EA7-93C5-4E6E-A3A1-A1213738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9EB1-8FD6-47B7-92DF-2DACE653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8B4B9-F496-41D5-9C50-FD15DBE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43638-DB95-4F84-B3E1-B6D574D0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85D2E-4919-44F9-9B25-6280E1C9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1944D-1A3B-45AF-841D-E5F22AB8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2D0A1-0F73-4A48-9EE0-2504EEC3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87078-E634-4F93-8702-7D04EC7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83D7C-7896-4235-85B7-9DAF767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7AE5-2049-4C77-A6C4-42DD550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C483-F1B3-413C-AFB3-5591D20E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43206-C8FC-4726-BDD7-606EE75B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D339-1BB8-48B9-881B-8F3457D6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059CD-9BCB-48E0-A4AE-20E7A694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9B7E-68D6-4A22-8DAB-F65D4730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8971C-D744-404E-B996-3D49FB6B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4586-3180-4B79-80DC-6D9F6AA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CD337-B581-42C0-8AAF-E07EEA5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C30FD-3C9E-4F29-9875-598053E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C8817-30E1-4051-A21F-DD2F848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098A7-D930-4759-8975-CA7E2A7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147B-961C-428C-AD8B-AC17272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43E75-D0BA-4B17-A064-355E6A2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8EC9C-119A-40D0-9A24-AFAB8E9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C0A2F-5A39-47CD-A8F9-3C3AB92F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C83F9-CD0B-4C5B-9022-FA9BAE9A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DFEA0-9224-4E2F-9EF3-E194E8A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595-EA2B-4DC9-882E-221D21B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EDED-7856-43B7-A0C5-2BE2D792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5AE-8614-443D-8F86-DD927D04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530A-47A5-4000-9D10-223BA1F0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E294-9866-4A88-97DF-B8B253D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73D-A8C4-4916-86B6-8EF008B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CCC-3142-4431-8529-CCC46D7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585E-367A-48B4-A92F-D782389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1905-8362-4F55-820D-E781D07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A9F-CB89-4C4D-8C62-2A6A8F0F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0277-0606-404F-B594-6F40F095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2363-91E8-44C8-80E3-ED4CB54E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66AD-2A8F-4B81-AA83-C62E707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F00C-CE5E-430D-8C38-52DE520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9E21-929B-44D9-9D57-41B8FFC0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B6F6-F317-4311-974F-7EED5245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85C-40F3-470F-882A-47EA1CE3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E5C2-20AB-4E8E-8D53-C93EB2C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112B-7630-40A9-AA29-6CCA3CB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0F25-D30B-497A-A5A0-6B2D0EC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B7BD-CD1A-4A05-92B7-6CD3A2F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E440-D934-4A65-9BE9-10D36694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C9E9-19EE-4042-8006-6A7A279B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2750-9332-49C2-982D-500EA2A0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BE035-6C60-4144-8D08-3553B63D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AC5B6-B9AF-4518-8511-1B668D6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2BEB6-6EBA-4C6E-8712-B6613491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FB3-2731-4293-989D-9FA095EA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98F5A-8EBA-41A5-8715-8DF20F3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DD23F-421E-452A-82D3-B45F32A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51B37-FE30-4902-A41D-EF1631D6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C3422-3DF3-450C-B1BD-B35D7FD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0B593-4DA8-4761-8A2E-AD2A62E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45ED8-B7FA-4945-9678-7C6AB4E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524B6-89C1-4742-A04C-8298ED4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C61EE-53DD-46C9-BA50-90DA8D52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87366-2D6D-4F5A-A688-1129308F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9B4F6-B7FC-4E2C-93DA-5AB11E31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090-53C1-49D7-B527-6381800A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02B82-2288-4FD4-BA01-474F13D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FAE8F-31E7-43C1-B0E0-04C8AE3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1CC80-2A2F-4831-9DA9-BE71500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7F3D6-C50D-46FF-A24C-9B6F73B2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11922-07CD-426F-A51D-21BA19A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6C672-716F-462B-986F-D1ABDAF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B9D9F-9F5A-4386-94EE-A7A34D0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9E007-7D5A-4E51-8D31-E314408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E85B5-D0FD-46CE-B3AB-12D6B5A6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9602D-C7D1-4409-91AC-E670270D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8DE-2B84-4502-8C63-A0C6E21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5BC4D-3AA3-42FE-9486-10E1ACED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672AC-9966-47E5-82B0-A105A17D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DCDAB-0F9E-4AC8-808C-FCD7E4CA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8BB83-54FA-4BA5-B2AA-4C688FBA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98437-3230-44A8-9572-0B720B97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A47A4-632C-4DE3-8542-FFC6D7C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EFE13-C154-4544-9442-C48F1A8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F5E4D-9AA9-4293-B533-B3DC062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A1881-95AD-4E7C-801B-2D77B1A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B3D21-4F4C-4696-8696-17B9377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EE6-A089-4F3E-82D5-3FA7F44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190F2-6A4C-4F75-A92C-AB8F2A1F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A62AE-E51D-4EAF-A5F3-936FDBC8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E1CC7-3FDB-4738-A393-E0C7DA51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86D1-474A-4DB2-82B2-9DC321EC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61E09-16B2-4CD5-B8BB-854219B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13E2-631D-4340-A036-6D3801FA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CB7E-CA69-437F-B34E-042F8B8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5EFA-08D6-4E83-B236-96E6888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9862-742B-4000-A822-E18A7580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F0B8B-8305-4BB2-85CE-711FD5C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F2B-F115-4C64-85E6-B3A97C9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FB4E-1862-408D-B5E9-04ED394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58C5-46F0-41ED-855B-66702CC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D59E-0791-47EC-ADCD-096E1DB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78FA-3BF4-4775-AE7F-D86E8B17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7B4B4-2F62-454E-8DF5-E4EE7366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140A4-1AF8-48D2-95E1-4EE7F1B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15AA-BCD0-4F95-B5D9-F3FA6DD7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11EA-B389-4CF1-A589-016E417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4890-374C-4A5B-9A58-55F7148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CAE2-0AEC-4F83-9C6D-F283EE8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58D-D6EB-4097-8CB2-382C598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DB32-7F11-4C49-8B2F-D3C9E8C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97D5-BE9B-4D5B-A20B-7A2430B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67C0-C88F-417C-9AB8-DD2E166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90875-C283-47C9-8C40-64512FA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BC99-8BAD-4A4A-BCD7-06CA9E0B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2712-2431-4752-9349-49977ACF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B10B3-1B1B-4FA2-815E-B05DBC4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229DE-4D35-4E32-BB89-377ACC85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18E1-EC27-4371-98D5-1DD659E0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B4F45-8672-4883-B91A-EB25287D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CFBD-D1CD-49E2-9CB1-02D71FD646E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2DCD7A3D-3E72-4994-A09F-D362D0CAB3B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964-B6BA-4C79-B931-FC9981079EE2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D010-BD96-4434-8DB3-80588E6556B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ABA9982-98E0-4162-91A4-3D5D8837499F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37F-75E2-4340-9467-70478C27A33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C09F-C466-4BD3-9DDB-67B8229872D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A370CC6F-B7F5-4D6F-A3EF-03BCE4B85D7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EC3A-60B8-420B-9B47-336B7FB83423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8D4-C4B4-4C6D-88E6-012F7A2D376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B09D9BB6-DD12-4550-B88B-B06B589C19B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7CB-6FFF-4B9E-BDEB-69529E538DC2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DB6-3779-4A4F-9050-FDA9560208CD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4C8B709D-79CB-4B63-82E5-86E148533B55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15:2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DA6-C29F-479F-8F5D-D53D67D68B1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EDA4-FD25-449F-B65A-3F22F73FF99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9A0D996-C2D9-4808-8C62-D605C25E758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830-A2CF-4CB9-968F-2478907BE02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BF8-DBE9-4123-B2DB-1772A51025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A34E6130-0FA2-4D73-BA35-CAB379C65F85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4BE2-9013-4B51-AD65-B378BE43875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DCB-A94C-4C16-929E-37A42FA0005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A4ED754-4CDF-4222-8A42-7F8A226CA1B1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E89D-55B4-40CE-B271-0DEB99C6D7E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124-412C-4EB6-8EA4-DED86FC95D9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274D7975-53B9-4AB8-9691-947340613A76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2626-6F5B-4F35-A9CF-22FF1D43433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929-88B0-4473-AD2A-7A02B3C7434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1F9859D9-05F3-4B23-AFBF-41753D7B275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C306-BECC-45EA-BE85-7972A67A851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3CE-D5C2-4C57-A863-6C5C84BC373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86503BAE-7BF9-49A7-87FB-739E401C129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7AB-AC09-4E85-89A9-58242B1404A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850-17A9-46A9-9C40-C37DC483AD3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70D81EB8-52C2-4CC2-9700-EB0E25C539EE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5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D35-139D-4710-A8C2-1F0030739A0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aycle.duplichan@jdpsbk12.org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52578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XCEL SPREADSHEETS</a:t>
            </a:r>
            <a:br>
              <a:rPr sz="4400"/>
            </a:b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JULY 22, 2013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534" name="Picture 3" descr="excel_cartoon.jpg"/>
          <p:cNvPicPr/>
          <p:nvPr/>
        </p:nvPicPr>
        <p:blipFill>
          <a:blip r:embed="rId1"/>
          <a:stretch/>
        </p:blipFill>
        <p:spPr>
          <a:xfrm>
            <a:off x="1560600" y="360360"/>
            <a:ext cx="61023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1143000" y="4724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m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"/>
          <p:cNvPicPr/>
          <p:nvPr/>
        </p:nvPicPr>
        <p:blipFill>
          <a:blip r:embed="rId1"/>
          <a:srcRect l="782" t="7293" r="1561" b="43750"/>
          <a:stretch/>
        </p:blipFill>
        <p:spPr>
          <a:xfrm>
            <a:off x="380880" y="1371600"/>
            <a:ext cx="8105760" cy="3048120"/>
          </a:xfrm>
          <a:prstGeom prst="rect">
            <a:avLst/>
          </a:prstGeom>
          <a:ln w="0">
            <a:noFill/>
          </a:ln>
        </p:spPr>
      </p:pic>
      <p:cxnSp>
        <p:nvCxnSpPr>
          <p:cNvPr id="561" name="Straight Arrow Connector 8"/>
          <p:cNvCxnSpPr/>
          <p:nvPr/>
        </p:nvCxnSpPr>
        <p:spPr>
          <a:xfrm flipV="1">
            <a:off x="2742840" y="4343040"/>
            <a:ext cx="1600920" cy="5342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2" name="Straight Arrow Connector 4"/>
          <p:cNvCxnSpPr/>
          <p:nvPr/>
        </p:nvCxnSpPr>
        <p:spPr>
          <a:xfrm flipH="1">
            <a:off x="7391160" y="456840"/>
            <a:ext cx="2160" cy="98928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3" name="TextBox 13"/>
          <p:cNvSpPr/>
          <p:nvPr/>
        </p:nvSpPr>
        <p:spPr>
          <a:xfrm>
            <a:off x="4495680" y="44956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      to automatically add numbers or click arrow for drop box and choo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will appear below the highlight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" descr=""/>
          <p:cNvPicPr/>
          <p:nvPr/>
        </p:nvPicPr>
        <p:blipFill>
          <a:blip r:embed="rId2"/>
          <a:srcRect l="83402" t="7293" r="14768" b="89040"/>
          <a:stretch/>
        </p:blipFill>
        <p:spPr>
          <a:xfrm>
            <a:off x="5486400" y="4800600"/>
            <a:ext cx="2286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HOW TO WRITE FORMULA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irst:      =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econd:   =SUM(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ird:    Highlight the cells you want to include. They will automatically be included in the formula   =SUM(A1:A5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urth:  ) enter ke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f the cells are not adjacent, use a comma between each cell identificatio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xample:  =Average(A1, C3,D5) enter ke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SYMBOLS FOR FORMUL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+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di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-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ubtrac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*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ltiplica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/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ivis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^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ponentia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ORDER OF OPE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y operations that are in parentheses, from left to right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ponentiation (^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ltiplication (*) and division (/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dition (+) and subtraction (-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mportant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does not matter if formula is written in caps or lower c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ell:cell) all of the data from first cell to last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ell,cell) the data from first cell and last cell on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rmula can be dragged instead of retyping it in a new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iding Columns/Row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ight ce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ght cli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d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rcRect l="8633" t="27303" r="68080" b="38986"/>
          <a:stretch/>
        </p:blipFill>
        <p:spPr>
          <a:xfrm>
            <a:off x="4267080" y="2209680"/>
            <a:ext cx="3429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eezing Pa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2720" y="1600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ighlight cell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iew T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reeze P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76" name="Straight Arrow Connector 5"/>
          <p:cNvCxnSpPr/>
          <p:nvPr/>
        </p:nvCxnSpPr>
        <p:spPr>
          <a:xfrm flipV="1">
            <a:off x="1752480" y="3962160"/>
            <a:ext cx="3810960" cy="305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77" name="Picture 3" descr=""/>
          <p:cNvPicPr/>
          <p:nvPr/>
        </p:nvPicPr>
        <p:blipFill>
          <a:blip r:embed="rId1"/>
          <a:srcRect l="782" t="0" r="12501" b="47918"/>
          <a:stretch/>
        </p:blipFill>
        <p:spPr>
          <a:xfrm>
            <a:off x="1752480" y="3276720"/>
            <a:ext cx="5877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ditio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rcRect l="0" t="0" r="6249" b="39587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6"/>
          <p:cNvSpPr/>
          <p:nvPr/>
        </p:nvSpPr>
        <p:spPr>
          <a:xfrm>
            <a:off x="762120" y="160020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tab…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ditio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82" name="Picture 6" descr=""/>
          <p:cNvPicPr/>
          <p:nvPr/>
        </p:nvPicPr>
        <p:blipFill>
          <a:blip r:embed="rId1"/>
          <a:srcRect l="32466" t="23273" r="1561" b="45837"/>
          <a:stretch/>
        </p:blipFill>
        <p:spPr>
          <a:xfrm>
            <a:off x="228600" y="4495680"/>
            <a:ext cx="5640480" cy="1981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2"/>
          <a:srcRect l="32621" t="26580" r="13280" b="45837"/>
          <a:stretch/>
        </p:blipFill>
        <p:spPr>
          <a:xfrm>
            <a:off x="380880" y="1752480"/>
            <a:ext cx="4572000" cy="1782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3"/>
          <a:srcRect l="29716" t="11245" r="12501" b="45837"/>
          <a:stretch/>
        </p:blipFill>
        <p:spPr>
          <a:xfrm>
            <a:off x="5105520" y="2286000"/>
            <a:ext cx="3655800" cy="20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r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86" name="Picture 8" descr=""/>
          <p:cNvPicPr/>
          <p:nvPr/>
        </p:nvPicPr>
        <p:blipFill>
          <a:blip r:embed="rId1"/>
          <a:srcRect l="0" t="0" r="3392" b="45763"/>
          <a:stretch/>
        </p:blipFill>
        <p:spPr>
          <a:xfrm>
            <a:off x="228600" y="289548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9"/>
          <p:cNvSpPr/>
          <p:nvPr/>
        </p:nvSpPr>
        <p:spPr>
          <a:xfrm>
            <a:off x="685800" y="1600200"/>
            <a:ext cx="26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ntir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an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Straight Arrow Connector 4"/>
          <p:cNvCxnSpPr/>
          <p:nvPr/>
        </p:nvCxnSpPr>
        <p:spPr>
          <a:xfrm flipH="1">
            <a:off x="532800" y="1828800"/>
            <a:ext cx="230760" cy="28202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ilter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1"/>
          <a:srcRect l="1561" t="4168" r="3905" b="46875"/>
          <a:stretch/>
        </p:blipFill>
        <p:spPr>
          <a:xfrm>
            <a:off x="152280" y="1600200"/>
            <a:ext cx="8239320" cy="3200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/>
          <p:cNvPicPr/>
          <p:nvPr/>
        </p:nvPicPr>
        <p:blipFill>
          <a:blip r:embed="rId2"/>
          <a:srcRect l="0" t="22918" r="39065" b="23962"/>
          <a:stretch/>
        </p:blipFill>
        <p:spPr>
          <a:xfrm>
            <a:off x="4724280" y="4191120"/>
            <a:ext cx="38102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 Spreadshee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04560" y="1600200"/>
            <a:ext cx="846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merType Md BT"/>
              </a:rPr>
              <a:t>Email: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b615"/>
                </a:solidFill>
                <a:uFillTx/>
                <a:latin typeface="AmerType Md BT"/>
                <a:hlinkClick r:id="rId1"/>
              </a:rPr>
              <a:t>Staycle.duplichan@jdpsbk12.org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merType Md BT"/>
              </a:rPr>
              <a:t>Handout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merType Md BT"/>
              </a:rPr>
              <a:t>www.JDTechCenter.wikispaces.co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eparating First And Last Na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93" name="Picture 5" descr=""/>
          <p:cNvPicPr/>
          <p:nvPr/>
        </p:nvPicPr>
        <p:blipFill>
          <a:blip r:embed="rId1"/>
          <a:srcRect l="0" t="4168" r="29690" b="51043"/>
          <a:stretch/>
        </p:blipFill>
        <p:spPr>
          <a:xfrm>
            <a:off x="228600" y="2514600"/>
            <a:ext cx="6858000" cy="327672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371520" y="160020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….Text to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2"/>
          <a:srcRect l="4688" t="25000" r="73440" b="53130"/>
          <a:stretch/>
        </p:blipFill>
        <p:spPr>
          <a:xfrm>
            <a:off x="3200400" y="4876920"/>
            <a:ext cx="213372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ARTS OF A WORKSHEET/SPREADSHEE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-152280" y="1452600"/>
            <a:ext cx="8991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Naviga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ab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to the right to next cell in same r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ift-Tab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to the left to previous cell in same r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rrow Keys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ve selection one cell in any dir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ift-Ent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up to previous cell in same colum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down to next cell in same colum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croll Ba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oll vertically and horizontally through the spreadsh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AutoFi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4038480" cy="15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3" name="Rectangular Callout 3"/>
          <p:cNvSpPr/>
          <p:nvPr/>
        </p:nvSpPr>
        <p:spPr>
          <a:xfrm>
            <a:off x="5410080" y="3352680"/>
            <a:ext cx="2057400" cy="1067040"/>
          </a:xfrm>
          <a:prstGeom prst="wedgeRectCallout">
            <a:avLst>
              <a:gd name="adj1" fmla="val -120689"/>
              <a:gd name="adj2" fmla="val 1351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ick AutoFill Corner and 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ular Callout 4"/>
          <p:cNvSpPr/>
          <p:nvPr/>
        </p:nvSpPr>
        <p:spPr>
          <a:xfrm>
            <a:off x="6172200" y="2057400"/>
            <a:ext cx="2286000" cy="457200"/>
          </a:xfrm>
          <a:prstGeom prst="wedgeRectCallout">
            <a:avLst>
              <a:gd name="adj1" fmla="val -94597"/>
              <a:gd name="adj2" fmla="val 11185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drag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ular Callout 5"/>
          <p:cNvSpPr/>
          <p:nvPr/>
        </p:nvSpPr>
        <p:spPr>
          <a:xfrm>
            <a:off x="2895480" y="4876920"/>
            <a:ext cx="1143000" cy="1295280"/>
          </a:xfrm>
          <a:prstGeom prst="wedgeRectCallout">
            <a:avLst>
              <a:gd name="adj1" fmla="val -87324"/>
              <a:gd name="adj2" fmla="val -1162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dra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5715000" y="5029200"/>
            <a:ext cx="16002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ingdings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mat as a Tab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rcRect l="49958" t="7977" r="2384" b="11865"/>
          <a:stretch/>
        </p:blipFill>
        <p:spPr>
          <a:xfrm>
            <a:off x="1447920" y="1371600"/>
            <a:ext cx="5410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Add A Tit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rcRect l="0" t="0" r="4167" b="68164"/>
          <a:stretch/>
        </p:blipFill>
        <p:spPr>
          <a:xfrm>
            <a:off x="0" y="2743200"/>
            <a:ext cx="8763120" cy="2182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ular Callout 7"/>
          <p:cNvSpPr/>
          <p:nvPr/>
        </p:nvSpPr>
        <p:spPr>
          <a:xfrm>
            <a:off x="4343400" y="1828800"/>
            <a:ext cx="2057400" cy="609480"/>
          </a:xfrm>
          <a:prstGeom prst="wedgeRectCallout">
            <a:avLst>
              <a:gd name="adj1" fmla="val -71837"/>
              <a:gd name="adj2" fmla="val 194967"/>
            </a:avLst>
          </a:prstGeom>
          <a:solidFill>
            <a:srgbClr val="ffffff"/>
          </a:solidFill>
          <a:ln w="19080">
            <a:solidFill>
              <a:srgbClr val="96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ap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ular Callout 8"/>
          <p:cNvSpPr/>
          <p:nvPr/>
        </p:nvSpPr>
        <p:spPr>
          <a:xfrm>
            <a:off x="5410080" y="2743200"/>
            <a:ext cx="2438640" cy="762120"/>
          </a:xfrm>
          <a:prstGeom prst="wedgeRectCallout">
            <a:avLst>
              <a:gd name="adj1" fmla="val -111509"/>
              <a:gd name="adj2" fmla="val 68347"/>
            </a:avLst>
          </a:prstGeom>
          <a:solidFill>
            <a:srgbClr val="ffffff"/>
          </a:solidFill>
          <a:ln w="19080">
            <a:solidFill>
              <a:srgbClr val="96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enter and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atting Spreadshe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rcRect l="0" t="0" r="4167" b="68164"/>
          <a:stretch/>
        </p:blipFill>
        <p:spPr>
          <a:xfrm>
            <a:off x="304920" y="2133720"/>
            <a:ext cx="8153280" cy="20318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"/>
          <p:cNvSpPr/>
          <p:nvPr/>
        </p:nvSpPr>
        <p:spPr>
          <a:xfrm>
            <a:off x="990720" y="2590920"/>
            <a:ext cx="274320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erting Cel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rcRect l="0" t="0" r="2384" b="76275"/>
          <a:stretch/>
        </p:blipFill>
        <p:spPr>
          <a:xfrm>
            <a:off x="152280" y="1676520"/>
            <a:ext cx="87724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00:36Z</dcterms:created>
  <dc:creator/>
  <dc:description/>
  <dc:language>en-US</dc:language>
  <cp:lastModifiedBy/>
  <dcterms:modified xsi:type="dcterms:W3CDTF">2013-06-18T16:32:10Z</dcterms:modified>
  <cp:revision>2</cp:revision>
  <dc:subject/>
  <dc:title>EXCEL BASICS MARCH 24,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